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6D39E5-5403-4541-94C5-8F0618B0C1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AF9608-D6B8-4CB8-A693-E298BC4F9C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AA34E0-4C5D-4B6E-B276-A0BD4D46AC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41949B-00B2-465E-879A-D4C446D5DD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90D4DB7-6286-492F-B98D-9DD0D5B4727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BC8123-12DD-4BDF-A3FB-82756DC2F5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070056-0419-4E98-AF15-C29E5D3E0E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1875F2-578E-403E-A719-27F1BCDF00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846093-6275-4A72-90EB-45662863D4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353145-6F0D-442A-B353-93EE8B730E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DD3932-BB7D-4F5E-87F7-133A32E9D0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E598E5-7670-4E32-9819-12BC333DDE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298907-5B0B-46E1-8BEE-10F5863781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4C0131-F449-4AF1-8393-7FA2A26CD0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79D7DC-97F2-49E4-A2B5-6CB677DAF2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419BF71-519F-4559-812D-D313954114F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7D53B93-F46F-403D-BD32-2C8D36788CE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6FE182-CB39-4BDD-B203-B19636CAFC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3FCE05-4690-4E14-86CA-81794AD888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2D9C1B-A8C4-4AB8-BA70-D0D7E61527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E29CCC-3A28-47E9-A000-D8214A0CF8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F71610-6AE9-45FE-88CD-B78AE1CE2D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588891-45CB-4F6B-8CBE-5BDA9D24FB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4C5DE3-AD87-4969-92E3-431CD436FF1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0F6C00-4E15-425A-AAF2-3149ECFD09B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E57CB9-6F21-4887-9DF5-37E5C7B0705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A75B5E4-02E7-4115-828C-9BF98921191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41A3BE2-FE91-44F5-A072-CE852C0070E2}"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1A4F40-B25C-4968-897E-896C206F246F}"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0E41E8-0203-4D55-B0E4-AE10BC0FB543}"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CD8842-0EA7-4A57-B9F6-EEFC7D4DF90D}"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FE6431-7E51-4BB0-8507-1280AB9CF32D}"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62DE16-9CA0-4964-9282-0BCDC69046C6}"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12C1C5-59BF-440A-8CF2-BC538C6E931B}"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FE176C-3608-42FD-9843-BA50B79C59D5}"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57515B-ADCC-4056-AD49-D7E056F65E38}"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3EC4FD-04C7-48C9-8992-1A6AEF8729AD}"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81113B-D999-493B-B8B0-FD5483C7C8AF}"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2782BB-4CD6-4953-B23E-86B2605F8CDB}"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36827E-FDFF-41A8-B8B1-82610CE36C25}"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792FE1-413A-455D-80EC-C81377E46FF2}"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7DF84D-0737-4B08-A7CD-AA5D3FAA889F}"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40DE74-5495-4EC2-A5D9-A0729A57C60C}"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188DA0-E92D-408C-A4DF-459AA06AC244}"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377062-83FF-4D87-93D5-0FFD79CCEFAB}"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A96F5D-600F-47FE-9E4E-392ED5ED75AA}"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C34121-653D-4B9E-96F2-E758C9ACB9B9}"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4A438F-1BA5-4BD8-9930-81C6B77DA360}"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8DCFA5-CF21-4456-A04B-E593B3919F55}"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BA5800-B2E1-49B7-8C34-C41176B19710}"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1A6692-6CC9-4B7E-AC7B-E03C6C3E02EB}"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A68A9A-1FE9-4088-978B-78AC4A2BE5E3}"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B9FE49-C2B3-49CA-A90A-9E79E09BA02F}"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22DE854-4088-430B-89E9-B9D6D74E46D4}"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24DF1A-A1E5-49F5-835F-135E6584803F}"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58A4EE-99EF-4499-BDB0-7F8A89F328F1}"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151199-B4F4-43B0-97CD-BC166AAE6E3F}"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41A30A-DE71-44B5-B5A4-B246A426C901}"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6AD967-E336-4FF1-A35F-D0494418431F}"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9EFC7E-12BD-42D2-87B5-7054400F6323}"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ED69C7-AB9C-4E9E-87AB-40974EA8FCEB}"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C9E28C-F46D-42EE-99A4-3F4767193035}"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569979-3CBF-41D1-8FDB-4CB9E989A40B}"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B1B726-8B2F-4A50-9EF7-49D2FDD68B34}"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135EFA-FEAE-488B-A756-29A437F4CD9A}"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691056-EFDC-4DD1-BECB-8035B6C996CD}"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5B5597-EBAE-4F95-A41A-58B10594861D}"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014BFA-C52E-46BB-AFC8-3B9A502198EE}"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CAC9B3-3604-4EB3-AD0B-01B88B8CCB61}"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5E0D69-124E-4201-A776-18C43EA76D7C}"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A397A9-58DC-4495-8CB9-3C39248BA779}"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C042BE-A02B-4FC0-B81E-5023E17DF190}"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839D84-A52D-418B-9093-E1DFB9D30667}"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85E043-5580-48A1-847C-C975EB2D6F6F}"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523808D-36B1-4FA6-A539-B03478F6ED2B}"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C8F7B4-3722-4864-9111-22E3BCE15E24}"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FD89EA-0BF8-4F7E-8570-8F790DDF4467}"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E41FDF0-A194-4B83-8140-25500E1511D4}"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6DB28C-51B6-4D4B-A327-D41970DA8986}"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28C33D-6CA2-4F7C-9C25-835395D17860}"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DD587D-5E0D-4D7B-8BDC-CE1065FD6279}"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790D7B-EA49-44B5-A40F-AA49B16FF864}"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6C560A-7DB3-47C3-991B-206E3519C161}"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672A8F-4C60-4680-8874-94E8BD0689C9}"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28D1A9-4A6B-4DB3-9FEB-FFE04A8F0798}"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91D3D3F-4F96-4CDF-9FCC-9A859280A7A4}"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0BF0B1-3F08-4AE8-B427-FE1D6A680F25}"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D19545-D529-4199-8162-91F6D6B57207}"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A451D3-DE1A-42BD-846A-7521A0ABB881}"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B5A9E2-BCAD-4F2E-8E11-FF1111740493}"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60821D-30A5-4EC2-B855-235456A634CB}"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69006D9-F73D-473A-AC15-744549903BF1}"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85C0CA-39B4-48CC-B6EE-4EC883E78E8A}"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C59C6C-57FF-4453-B998-7D2F466472E2}"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0046A4-0E08-4E12-9E5C-1EEA2321D4EE}"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488552-3A70-4031-8A9D-D994D641EFFA}"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16D58CD-9162-435F-8A2A-18C815F94415}"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FF481C-DA8F-4264-AA8E-213BE4E2C902}"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E28481-8D8F-432C-8E30-6C1D8FB35DAC}"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AC7D6F-ED72-46FF-8345-FF70AEC1F851}"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890D13-CFEA-412D-BE44-0FD6BFDDA47D}"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F8B989-FFBF-40DA-8B4F-DDED7FF9E163}"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1AD9CF-2EA9-40F5-950E-CDB56461FF28}"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CA47214-3346-482F-8C97-2AB8096C0B99}"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A2B48C-E5E6-42B3-8C36-E2930D5DCDB0}"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AB0214-2016-4EA6-9822-F8334CABB71E}"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D58BB2-D670-4AB4-BFC3-79632A356171}"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92A45C3-B0E0-436D-AB26-3F02C22F4DF2}"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E95081-B39A-455C-8DE4-752E5D77C5C1}"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68F3CA4-C5B6-4334-8C0F-0788327570C1}"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CBEE6C-F7D7-4888-9780-637B16CAB82D}"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D466C3-D350-4354-AE5A-286C0C45B3CE}"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56C7CF-2DEC-4606-9392-0A61139D234E}"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06B991-C2B2-4A89-BAA9-9AEA8FF9912B}"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D78EB1-13D6-4DB2-B48F-08DAA155380F}"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F286D9-D214-4A3F-BE6A-9E7FF3F589F7}"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06F5EA-41E8-4DAF-966A-64C211C42D84}"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F5235D-6DD1-4A8D-AB40-A9D0E7A94C29}"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F65070-C0BD-4A8D-BD09-5F95E944D4A9}"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E57534-F72B-447E-94AC-05E5DC59C7ED}"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45FE79-E3F4-4134-8597-5FBC6F0790EF}"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201DCA-E40E-4212-8A01-61ED4C0A7085}"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BBC104-2672-4DC2-8EEF-DE16E43834F7}"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CEEFA3-E0CD-404A-A143-DC101C14611F}"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6E268D-E5A8-4B67-88AD-5E7F00127E99}"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58FACC9-2665-4D36-BE54-B5C3D4F51FCF}"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2D371D-AD11-4AEC-9393-98C1EFFFD5CC}"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5DDA49-786B-4C4B-973C-9935CE8F0952}"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BE3C51-15E4-4402-AF78-63C2A8D9BC39}"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A6065F-E740-46FF-AFA0-6FFB1F971804}"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558CBE-05FD-498D-B6D1-7A24160D2DB9}"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DC2764-7E91-4297-B463-974FBCF41C41}"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B8DEBE-E8B5-4EB6-B925-29B8B3AB9D2F}"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49B8D2-1B91-496A-932A-95C2FDFCC986}"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143E0B-81E4-4501-A473-042115297589}"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27B336-5B54-4D86-A18D-F751200AA738}"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4BD6D3-367C-4A30-8DF3-F2D912FB05F9}"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4B8041-1B12-457D-99E6-38E184F9175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638A0E-F92B-4CB6-B5A3-27C8699AAD48}"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1E6176-5E68-4533-8127-E56F160DA7DA}"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88DC30-101A-4EE5-90C7-0B0F7C6AC687}"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DEEFAA-49A0-40F4-9315-809E237DD2A1}"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A0E752-B85C-40CA-AD28-5D0A6DE1D66D}"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C578FA-18BE-4C8D-ABB1-786FC35030DC}"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77307F-70AA-4D0A-B979-20854123DA94}"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910B42-BD92-42CD-94CD-172E253F3D97}"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40856B-FCD4-4833-82F6-A0532FBE6F6C}"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C4988F-7307-4E5A-A22E-5869AC0593BD}"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0F8F12-35DA-43BC-925A-5FDA608CFEA3}"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12618D-BEDB-4827-B82E-E13598C5ABAB}"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A6F5FF-674C-4E35-8692-808D59B6706B}"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A179D2-268A-4E05-B519-8AECDF788DC6}"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0272A4-0535-4978-9703-600E572FC4DF}"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2C002A8-57C1-4663-ADDE-310E049B3C07}"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11CDFD-B3BD-4DC7-8AD4-03525C887C7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86D37F-BB0C-4E33-B77C-CB4960B6A8A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034424-39BD-4ACC-9706-BF2FD8786E6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DE9108-CA6E-40D6-AE67-4DA6A92A386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F45FD6-387D-4630-A6FC-605D40DA916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737C67-AD6D-46D7-8D38-EA5157B5EE8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C2359BB-074E-4257-B8FC-A18E0B024AD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2CB47C-6883-4F5B-83A2-D2DD3E752C8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E1F210-4008-40B0-B5DF-64EDEB361F0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0DD82F-E78E-42EB-BEDC-5F2C1ADC68A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1D80E1-FA75-462C-BB13-34CA989A213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9B8658-0681-4D53-BA86-DF3BFECFF75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C91A9B-B44C-409B-AD40-1E9505BA5D9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AE9859-D5E3-468A-B8C0-A0999282124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2DB1E9-5559-456F-9D5F-47FCAC036C9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AD3DDE-ECF3-4B6B-A272-0A5DC8A341F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30B002-4DA5-4392-A788-040826012A5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AADD9B-A147-47D8-9500-9771139F01A7}"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D0150B-CACB-43DB-B02D-CA78F2928F2B}"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736A00-A3F1-4EE9-A344-051EC9AF55C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DBCD4F-E619-4257-BFF8-56EBA07D21D6}"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085317-3C41-445C-9292-37EB07DF62D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4B5B5A-C6E0-470E-AE57-2C8E793BF6BC}"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13DAC6-BBC0-439C-A036-02EBD4B6784A}"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E4AC40-CCC4-45B7-A47F-D842B2C564DD}"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7F0A1D-5464-492A-9EAE-DCA1D75FEB3C}"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6AB35B-0FF7-4679-B644-FAA608B771E5}"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F68429-180B-4E9B-B84E-B424ACD87526}"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AE5401-3796-4AD9-81C8-631AB09995D9}"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33F5F1-BC6A-4739-871E-574098D5C764}"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2FE435-A4D3-4A87-B683-9FE9340930C4}"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672E50-7F07-4D63-8A00-27ED2F33A062}"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36ADB2-6736-44AD-BACD-FCB0C01F5E18}"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A710E7-42FD-4E50-B31B-BD7E8ED66402}"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093B13-4715-4F23-A3CD-8F2FAB47A5CE}"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F106E8-492C-4579-A286-629E4A047D09}"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3E10FB-6861-4B18-867C-C3BD07CF7897}"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A0C15E-1627-46A6-9482-15890D2B756D}"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7481BA-2683-4412-8EF9-4306EBE041DF}"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E514CE-32A1-4196-9248-E1997DC6B15E}"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20410A-4AA9-4EB4-BB90-5C72166FDF86}"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4CF879-D027-4A7C-B85F-0177B9D3A96D}"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A3F788-B7F3-434B-A124-633908D00D9F}"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A4DF5E-9491-4796-A223-731FCA3F0E7C}"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7CDE4E-46C4-4765-AB79-D36A3AD2FCB4}"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191C18-2F68-4734-B8C0-E35F37D1FF2D}"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E38CCE-7CA8-4484-96C5-E5CEB9CD3723}"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2C15DF5-A8A7-4367-B965-AE20541DEB2A}"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C9C815-F271-4301-A913-C7F5BE835F0F}"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4D8396-3CCB-47CF-AAEE-8E4093D0F16F}"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8B8F2F-D9E7-481D-A38C-08620310038A}"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D9F32F-64DA-4030-91D9-EEF993867DE0}"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291DD4-9D5E-42FF-B94D-73E4F0003D7F}"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545859-B907-43CB-AAA4-7681B9FB65F4}"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83B9DF-5A0E-490C-A34D-39FE84B6163C}"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0EBEC1-8426-4C19-88FF-5EFDC1BA47E0}"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F75A430-CBB0-4BDD-BD60-3CAD69F3802E}"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B7CF58-8D5B-4BFE-AD70-4940C330DE9F}"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F55DC9-4D1A-413F-88D2-5FEA7B6F3A8D}"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9EA4F0-7FE2-43EA-A27C-7959E02BFFD5}"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186F3A-5144-4A1C-8F21-B02481BCB638}"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6F1A61-9A6E-4D0F-85AE-4C76D405906D}"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F37810-8FDA-4621-8606-AF753EFBC624}"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3623FA-DCFE-4F92-9B10-138482AE2DEC}"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34EFAC-3430-4D01-80F7-5186B07FFB55}"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D24AA6-345A-4A75-B1CD-97C1BD1F3DB3}"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E08773-B723-4452-A39A-F7D916DE992A}"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09790E-F67F-4976-B057-7C734AFD38FD}"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011F39-D43B-4FE2-A036-49F05442EC23}"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51E0C9-565C-4C36-975F-C45E8735B498}"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65C8E7-E8B4-41A6-80BD-3D0B07C664EB}"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1EE3C03-BBC8-4D1C-B807-8A69CB74C017}"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B1D054-1ACD-43FC-946F-43CFC083E530}"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723A5E-1008-4452-AF3C-2DD3A617C5D6}"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43402B-4FF6-4677-A158-D6CA27F70A66}"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C1CF13-975A-4F86-A754-F31194F68758}"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8BC8DE-4237-4D98-ADFA-1F94CF78E4E1}"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08C89B-0CEB-44BF-BEC6-5B555813C022}"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46E53E-0265-4569-8C11-40003214F0FB}"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DCFC6D-1961-4684-A855-E11A18593304}"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177738-91DB-4A3E-8E9D-1D8340AF0FDF}"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E52C94-4793-4FD4-A6EF-BB26D65ECB93}"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60EB5B-A881-447A-855B-7E622B1D7EB8}"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E1EDD7-6DC2-4BF8-A790-E6EAF602D159}"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305ABB-4324-47B1-A308-5F35FDD4CF21}"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