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43"/>
        <c:axId val="86690515"/>
      </c:barChart>
      <c:catAx>
        <c:axId val="728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90515"/>
        <c:crosses val="autoZero"/>
        <c:auto val="1"/>
        <c:lblAlgn val="ctr"/>
        <c:lblOffset val="100"/>
        <c:noMultiLvlLbl val="0"/>
      </c:catAx>
      <c:valAx>
        <c:axId val="86690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D76-428F-47C2-8AF8-D58119A2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4B63-16D1-4B1B-B9AE-81C786E1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BC2-A68F-41E0-8668-E2B506426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E213-C998-494C-8DDD-27069776C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DA1-7764-4E7A-88E2-8A04C493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9D1E-A1DF-4C12-8490-2F8904CD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4EC-2D18-4A91-AB6C-EB3C0EEB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3E61-FEC4-4901-9A82-423973AE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CC78-D4E9-46FD-AB85-D2212B72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BEB-D594-444A-9F7C-298FA99E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F80A-AB89-4B8C-9FD2-A81889F9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E7B-7F9E-4C03-A5B5-2B5222EA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E48EE-9AEB-436A-9BF6-836706F342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